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10D-A0AC-4ACC-B62B-547AED57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6E7-60D0-4196-9671-AE87339E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E1B-1DB4-4B84-95AB-0D2322F8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621-3875-438B-A007-82DEEA33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D75-D93F-484C-AB7F-CEA1CFA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EFA-D81B-4E98-8119-311459F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317-608F-46B3-A903-6ECEBD76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D90-BCAF-43E1-9A3E-E43CF264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778-1B01-4602-B041-812E8FF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78A-4745-44E2-A9D7-5CAF63D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0F2-7735-493A-BBB3-A12C033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CAB-95E1-472F-8CD4-D47D2A1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B66-C27F-44FC-9BB4-601D5CC6012D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.ac.uk/cimt/puzzles/puzzindx.ht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72000" y="342900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72000" y="342900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6192720" y="414756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72000" y="342900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0" y="342900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2720" y="342900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2000" y="414972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0120" y="414972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1640" y="45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640" y="1628280"/>
            <a:ext cx="855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xamples of tangrams were sourc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.ac.uk/cimt/puzzles/puzzindx.htm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lady"/>
          <p:cNvPicPr/>
          <p:nvPr/>
        </p:nvPicPr>
        <p:blipFill>
          <a:blip r:embed="rId1"/>
          <a:stretch/>
        </p:blipFill>
        <p:spPr>
          <a:xfrm>
            <a:off x="5832360" y="458640"/>
            <a:ext cx="3095640" cy="3772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man"/>
          <p:cNvPicPr/>
          <p:nvPr/>
        </p:nvPicPr>
        <p:blipFill>
          <a:blip r:embed="rId1"/>
          <a:stretch/>
        </p:blipFill>
        <p:spPr>
          <a:xfrm>
            <a:off x="6102360" y="458640"/>
            <a:ext cx="2666880" cy="348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yachts"/>
          <p:cNvPicPr/>
          <p:nvPr/>
        </p:nvPicPr>
        <p:blipFill>
          <a:blip r:embed="rId1"/>
          <a:stretch/>
        </p:blipFill>
        <p:spPr>
          <a:xfrm>
            <a:off x="5111640" y="458640"/>
            <a:ext cx="3524400" cy="16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cat "/>
          <p:cNvPicPr/>
          <p:nvPr/>
        </p:nvPicPr>
        <p:blipFill>
          <a:blip r:embed="rId1"/>
          <a:stretch/>
        </p:blipFill>
        <p:spPr>
          <a:xfrm>
            <a:off x="5832360" y="45864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indian"/>
          <p:cNvPicPr/>
          <p:nvPr/>
        </p:nvPicPr>
        <p:blipFill>
          <a:blip r:embed="rId1"/>
          <a:stretch/>
        </p:blipFill>
        <p:spPr>
          <a:xfrm>
            <a:off x="7182000" y="458640"/>
            <a:ext cx="1428480" cy="305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candle"/>
          <p:cNvPicPr/>
          <p:nvPr/>
        </p:nvPicPr>
        <p:blipFill>
          <a:blip r:embed="rId1"/>
          <a:stretch/>
        </p:blipFill>
        <p:spPr>
          <a:xfrm>
            <a:off x="7002360" y="638280"/>
            <a:ext cx="1638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lighthouse"/>
          <p:cNvPicPr/>
          <p:nvPr/>
        </p:nvPicPr>
        <p:blipFill>
          <a:blip r:embed="rId1"/>
          <a:stretch/>
        </p:blipFill>
        <p:spPr>
          <a:xfrm>
            <a:off x="5923080" y="458640"/>
            <a:ext cx="2923920" cy="324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house"/>
          <p:cNvPicPr/>
          <p:nvPr/>
        </p:nvPicPr>
        <p:blipFill>
          <a:blip r:embed="rId1"/>
          <a:stretch/>
        </p:blipFill>
        <p:spPr>
          <a:xfrm>
            <a:off x="6012000" y="549360"/>
            <a:ext cx="2724120" cy="2381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swan"/>
          <p:cNvPicPr/>
          <p:nvPr/>
        </p:nvPicPr>
        <p:blipFill>
          <a:blip r:embed="rId1"/>
          <a:stretch/>
        </p:blipFill>
        <p:spPr>
          <a:xfrm>
            <a:off x="5923080" y="277920"/>
            <a:ext cx="3009960" cy="240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right triangle"/>
          <p:cNvPicPr/>
          <p:nvPr/>
        </p:nvPicPr>
        <p:blipFill>
          <a:blip r:embed="rId1"/>
          <a:stretch/>
        </p:blipFill>
        <p:spPr>
          <a:xfrm>
            <a:off x="5923080" y="458640"/>
            <a:ext cx="2695320" cy="1514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4:18:58Z</dcterms:created>
  <dc:creator>Jacqui Sharp</dc:creator>
  <dc:description/>
  <dc:language>en-US</dc:language>
  <cp:lastModifiedBy>Jacqui Sharp</cp:lastModifiedBy>
  <dcterms:modified xsi:type="dcterms:W3CDTF">2003-05-03T05:39:42Z</dcterms:modified>
  <cp:revision>3</cp:revision>
  <dc:subject/>
  <dc:title>Slide 1</dc:title>
</cp:coreProperties>
</file>